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BD22-D5FA-4E37-BE36-2689AF62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7D8F-77BA-4524-90BD-69CE525E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2F82-67EF-4760-9DAB-CFE6A854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4E3C-F8F3-4573-B7BD-A98871F8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7F72-5B26-4E24-9E62-FBA435FE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4424-0EB8-48E1-B24D-1D8B3A00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CA88-D7C4-4AAA-A8B3-A7E14D05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8DEA-47B8-4957-A800-04C8773C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A5F6-432A-4CCA-B38E-6DB0E4F6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E9C7-3603-42AB-81EA-A66AAF47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D8CD-1702-48E5-83EE-1909B177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7F7B-A4A4-4E2A-85F7-E31B29D4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684360" y="-155520"/>
            <a:ext cx="10296720" cy="7067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324000" y="476280"/>
            <a:ext cx="3241440" cy="10350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rcRect l="0" t="0" r="69892" b="20080"/>
          <a:stretch/>
        </p:blipFill>
        <p:spPr>
          <a:xfrm>
            <a:off x="3780000" y="476280"/>
            <a:ext cx="1582560" cy="360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95280" y="1700280"/>
            <a:ext cx="2736720" cy="450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" name=""/>
          <p:cNvGraphicFramePr/>
          <p:nvPr/>
        </p:nvGraphicFramePr>
        <p:xfrm>
          <a:off x="8064360" y="333360"/>
          <a:ext cx="955800" cy="1544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064360" y="333360"/>
                    <a:ext cx="95580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" name="" descr=""/>
          <p:cNvPicPr/>
          <p:nvPr/>
        </p:nvPicPr>
        <p:blipFill>
          <a:blip r:embed="rId8"/>
          <a:srcRect l="30143" t="0" r="0" b="0"/>
          <a:stretch/>
        </p:blipFill>
        <p:spPr>
          <a:xfrm>
            <a:off x="3708360" y="907920"/>
            <a:ext cx="3672000" cy="4510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412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412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4120" y="6191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51000" y="6191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000" y="6191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1568-0473-400D-A01E-0D239BD25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757080" y="-209520"/>
            <a:ext cx="10296360" cy="7067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2560" y="422280"/>
            <a:ext cx="5616720" cy="482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63480" y="2511360"/>
            <a:ext cx="2490840" cy="4103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348000" y="5486400"/>
            <a:ext cx="4537080" cy="1225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284720" y="4076640"/>
            <a:ext cx="3384360" cy="1054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476360" y="1125360"/>
            <a:ext cx="6516720" cy="207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7993080" y="333360"/>
          <a:ext cx="955800" cy="154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93080" y="333360"/>
                    <a:ext cx="95580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57120" y="2565000"/>
            <a:ext cx="6086520" cy="31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3880" indent="0" algn="ctr">
              <a:lnSpc>
                <a:spcPct val="90000"/>
              </a:lnSpc>
              <a:spcBef>
                <a:spcPts val="799"/>
              </a:spcBef>
              <a:spcAft>
                <a:spcPts val="28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in the worldwide movement against child lab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550"/>
              </a:spcBef>
              <a:spcAft>
                <a:spcPts val="964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ver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550"/>
              </a:spcBef>
              <a:spcAft>
                <a:spcPts val="964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lo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550"/>
              </a:spcBef>
              <a:spcAft>
                <a:spcPts val="964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de Un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550"/>
              </a:spcBef>
              <a:spcAft>
                <a:spcPts val="964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vil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56360" y="587700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For more information contac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ipec@ilo.org  - 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www.ilo.org/ip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59280" y="1988640"/>
            <a:ext cx="59054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 algn="ctr">
              <a:lnSpc>
                <a:spcPct val="90000"/>
              </a:lnSpc>
              <a:spcBef>
                <a:spcPts val="799"/>
              </a:spcBef>
              <a:spcAft>
                <a:spcPts val="28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ms of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raise global awareness of child labour and the required policy respon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focus attention on involvement of girls in child labo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mark the tenth anniversary of ILO Convention No. 182, which aims at eliminating the worst forms of child labou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57120" y="1988640"/>
            <a:ext cx="5907240" cy="46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 algn="ctr">
              <a:lnSpc>
                <a:spcPct val="90000"/>
              </a:lnSpc>
              <a:spcBef>
                <a:spcPts val="799"/>
              </a:spcBef>
              <a:spcAft>
                <a:spcPts val="28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rls and child lab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stimated 100 million girls are involved in child labo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undertake similar work as boys, but may endure additional hardships and ris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rls may be exposed to some of the worst forms of child labour often in hidden work situ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LO Convention No. 182 calls for special attention to the situation of gir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57120" y="1988640"/>
            <a:ext cx="5907240" cy="340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 algn="ctr">
              <a:lnSpc>
                <a:spcPct val="90000"/>
              </a:lnSpc>
              <a:spcBef>
                <a:spcPts val="799"/>
              </a:spcBef>
              <a:spcAft>
                <a:spcPts val="28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girl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riculture 60-7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ices, including domestic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ufactu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of the most unacceptable forms of child labour- bonded labour, prostitu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57120" y="1989000"/>
            <a:ext cx="59785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3880" indent="0" algn="ctr">
              <a:lnSpc>
                <a:spcPct val="90000"/>
              </a:lnSpc>
              <a:spcBef>
                <a:spcPts val="799"/>
              </a:spcBef>
              <a:spcAft>
                <a:spcPts val="28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rls face multiple 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rls are discriminated against in many cult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rls take on household chores more than boys - childcare, cooking, cleaning, and fetching water and fu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rls often combine household               chores with economic activity           presenting girls with a “double burden”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555640" y="2025720"/>
            <a:ext cx="6769080" cy="47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 algn="ctr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rls disadvantaged in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primary level - for every 100 boys in school, there are only 94 gir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secondary level - enrolment in developing countries is 61% for boys and 57% for girls. In least developed countries 32% for boys and 26% for gir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most two thirds of the worlds illiterate population is fema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s training opportunities for adolescent girls are limi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rls in rural areas particularly disadvantag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57120" y="2060640"/>
            <a:ext cx="597852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 algn="ctr">
              <a:lnSpc>
                <a:spcPct val="80000"/>
              </a:lnSpc>
              <a:spcBef>
                <a:spcPts val="700"/>
              </a:spcBef>
              <a:spcAft>
                <a:spcPts val="24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ent work and developme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educating gi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ucating girls is one of the most effective ways of tackling pover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ucation is the first steps towards Decent Work and a decent livelihood as an adul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ucated girls are more likely to have better income as adults, marry later, have fewer and healthier childr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likely to ensure that their own                      children are educated, helping to avoid                   future child labo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57120" y="1989000"/>
            <a:ext cx="6048360" cy="38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3880" indent="0" algn="ctr">
              <a:lnSpc>
                <a:spcPct val="90000"/>
              </a:lnSpc>
              <a:spcBef>
                <a:spcPts val="799"/>
              </a:spcBef>
              <a:spcAft>
                <a:spcPts val="28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global crisis threatens gi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ing poverty will generate child labo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families have to choose between education of a boy or girl, girls will often lose ou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ts in education budgets could     worsen access to education and education qua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57120" y="2025720"/>
            <a:ext cx="5907240" cy="42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 algn="ctr">
              <a:lnSpc>
                <a:spcPct val="80000"/>
              </a:lnSpc>
              <a:spcBef>
                <a:spcPts val="799"/>
              </a:spcBef>
              <a:spcAft>
                <a:spcPts val="28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June 12 we call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cy responses to tackle the causes of child labour, with particular attention to gir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gent action to tackle the worst forms of child labo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eater attention to education and training needs of adolescent gir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rgeted measures to protect poor households from the impact of the economic cris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1:09:56Z</dcterms:created>
  <dc:creator>g12ipec</dc:creator>
  <dc:description/>
  <dc:language>en-US</dc:language>
  <cp:lastModifiedBy>Castillol</cp:lastModifiedBy>
  <dcterms:modified xsi:type="dcterms:W3CDTF">2009-05-05T10:11:37Z</dcterms:modified>
  <cp:revision>29</cp:revision>
  <dc:subject/>
  <dc:title>Slide 1</dc:title>
</cp:coreProperties>
</file>