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48A-DB1C-433E-A3E2-CEDDCEB3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0B9-78C9-4128-AB9D-DD1E302D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24B-BA59-4F1D-A712-CE732503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557-37ED-41FA-B3D3-39B719A4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0D3-4771-42EA-98C1-281DAD3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661-2937-4BEC-83C6-FABE6AA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0C2-E538-466E-B69F-03DA98C5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432-BCD8-4189-9601-27DA637A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A3F-7C51-45F0-BA44-B3C6B7D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4F7-4D88-4A80-8927-31BD80A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6F2-07A1-4267-BBD6-91F1A98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06E-6BB4-4192-9FC1-AC76B5A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84360" y="-155520"/>
            <a:ext cx="10296720" cy="7067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241440" cy="1035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rcRect l="0" t="0" r="69892" b="20080"/>
          <a:stretch/>
        </p:blipFill>
        <p:spPr>
          <a:xfrm>
            <a:off x="3780000" y="476280"/>
            <a:ext cx="158256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95280" y="1700280"/>
            <a:ext cx="2736720" cy="45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8064360" y="333360"/>
          <a:ext cx="95580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64360" y="333360"/>
                    <a:ext cx="9558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8"/>
          <a:srcRect l="30143" t="0" r="0" b="0"/>
          <a:stretch/>
        </p:blipFill>
        <p:spPr>
          <a:xfrm>
            <a:off x="3708360" y="907920"/>
            <a:ext cx="3672000" cy="4510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412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6191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1000" y="6191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6191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B190-5B82-4266-97F0-1C946197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757080" y="-209520"/>
            <a:ext cx="10296360" cy="706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2560" y="422280"/>
            <a:ext cx="5616720" cy="48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63480" y="2511360"/>
            <a:ext cx="2490840" cy="41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48000" y="5486400"/>
            <a:ext cx="453708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3384360" cy="105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476360" y="1125360"/>
            <a:ext cx="6516720" cy="207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993080" y="333360"/>
          <a:ext cx="955800" cy="15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93080" y="333360"/>
                    <a:ext cx="9558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57120" y="2565000"/>
            <a:ext cx="6086520" cy="31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the worldwide movement against child lab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 Un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6360" y="587700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For more information conta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pec@ilo.org  - 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ww.ilo.org/i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59280" y="1988640"/>
            <a:ext cx="59054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aise global awareness of child labour and the required policy respo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ocus attention on involvement of girls in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rk the tenth anniversary of ILO Convention No. 182, which aims at eliminating the worst forms of child labou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7120" y="1988640"/>
            <a:ext cx="5907240" cy="46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and child lab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stimated 100 million girls are involved in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undertake similar work as boys, but may endure additional hardships and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may be exposed to some of the worst forms of child labour often in hidden work situ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O Convention No. 182 calls for special attention to the situation of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57120" y="1988640"/>
            <a:ext cx="5907240" cy="34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girl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iculture 60-7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, including domestic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most unacceptable forms of child labour- bonded labour, prostitu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57120" y="1989000"/>
            <a:ext cx="59785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face multiple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are discriminated against in many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take on household chores more than boys - childcare, cooking, cleaning, and fetching water and f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often combine household               chores with economic activity           presenting girls with a “double burden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55640" y="2025720"/>
            <a:ext cx="6769080" cy="47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rls disadvantaged i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primary level - for every 100 boys in school, there are only 94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secondary level - enrolment in developing countries is 61% for boys and 57% for girls. In least developed countries 32% for boys and 26% for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wo thirds of the worlds illiterate population is fem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training opportunities for adolescent girls are lim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rls in rural areas particularly disadvanta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57120" y="2060640"/>
            <a:ext cx="59785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00"/>
              </a:spcBef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 work and develop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ducating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ng girls is one of the most effective ways of tackling pov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is the first steps towards Decent Work and a decent livelihood as an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ed girls are more likely to have better income as adults, marry later, have fewer and healthier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likely to ensure that their own                      children are educated, helping to avoid                   future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57120" y="1989000"/>
            <a:ext cx="6048360" cy="38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lobal crisis threatens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poverty will generate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families have to choose between education of a boy or girl, girls will often lose o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s in education budgets could     worsen access to education and education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57120" y="2025720"/>
            <a:ext cx="5907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99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June 12 we cal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responses to tackle the causes of child labour, with particular attention to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gent action to tackle the worst forms of child lab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attention to education and training needs of adolescent gir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1925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ed measures to protect poor households from the impact of the economic cri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09:56Z</dcterms:created>
  <dc:creator>g12ipec</dc:creator>
  <dc:description/>
  <dc:language>en-US</dc:language>
  <cp:lastModifiedBy>Castillol</cp:lastModifiedBy>
  <dcterms:modified xsi:type="dcterms:W3CDTF">2009-05-05T10:11:37Z</dcterms:modified>
  <cp:revision>29</cp:revision>
  <dc:subject/>
  <dc:title>Slide 1</dc:title>
</cp:coreProperties>
</file>